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65FA-7849-48F2-965B-B3C1A2934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C16ED-1202-4061-A120-BBFD3E9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FA5-803B-4503-ABD9-20977DD6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00DD0-DB2C-459B-AFF8-88457131A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464B-DF81-463F-82D3-5206E3259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7179-9540-401C-B6F5-1A83B9E8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6BCD-A94C-4745-B504-23469487D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4911-2305-4067-9040-993E20B2D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5E7B-1C42-4A50-8579-01A29E88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F0C2-2726-41E4-AED7-1C7025FC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28A7-890F-4193-BC44-173129B9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4E69-76F5-431C-82E2-77466D0F9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950E-FF60-4CFE-A89B-4362265590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4T16:45:35Z</dcterms:created>
  <dc:creator/>
  <dc:description/>
  <dc:language>en-US</dc:language>
  <cp:lastModifiedBy/>
  <dcterms:modified xsi:type="dcterms:W3CDTF">2006-11-14T16:46:10Z</dcterms:modified>
  <cp:revision>1</cp:revision>
  <dc:subject/>
  <dc:title>Slide 1</dc:title>
</cp:coreProperties>
</file>