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A05D3-4D7D-44BB-A240-D5BA9AC9E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75FBB-68D5-48C5-A2D2-3CEBD2717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FA8E4-F15F-4E81-8DAE-CDFB26B1E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C3651-D593-446F-AAFF-38DBE7245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CCDC1-2EFC-4C6F-8920-EE77D2365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7E140-7846-4F83-A4C9-029B7B9E3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0EC84-968B-443E-B990-E112086CE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908C7-E6C6-472E-94D7-258EFBD71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17197-539E-46D4-A9E1-19E150701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DD09C-219E-4647-B4FF-437551620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30C62-4EB9-4456-81F4-833A297E2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7089D-AD84-41FB-8F21-37A2BD92E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B1038-9F4B-45F5-BD52-A2EC492F8C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4T16:45:35Z</dcterms:created>
  <dc:creator/>
  <dc:description/>
  <dc:language>en-US</dc:language>
  <cp:lastModifiedBy/>
  <dcterms:modified xsi:type="dcterms:W3CDTF">2006-11-14T16:46:10Z</dcterms:modified>
  <cp:revision>1</cp:revision>
  <dc:subject/>
  <dc:title>Slide 1</dc:title>
</cp:coreProperties>
</file>