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F1D6-8975-492A-BEF7-25953A210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50A6-823B-4655-ADDB-142CEF11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1765-3345-4E88-8DC9-71967AD47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0B29-A35A-4A4B-9DC0-C4178F688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F8CB-0934-409F-9B03-0C2DE59C7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4518-6664-4EB2-BA6D-62363C870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DE5C-E94C-4D97-A263-AA2CC762E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815F-DE3E-45A8-B2CB-1B7DCCEA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1F71-C2A2-47E2-87C1-423A058E7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C610-B316-4177-ADF5-251DEF86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7246-9AC1-489E-89EA-9DAF1932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5E13-6898-489A-AB3F-FD5D47F1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4E591-7BE3-4AAA-B3EC-CFA82390F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6:45:35Z</dcterms:created>
  <dc:creator/>
  <dc:description/>
  <dc:language>en-US</dc:language>
  <cp:lastModifiedBy/>
  <dcterms:modified xsi:type="dcterms:W3CDTF">2006-11-14T16:46:10Z</dcterms:modified>
  <cp:revision>1</cp:revision>
  <dc:subject/>
  <dc:title>Slide 1</dc:title>
</cp:coreProperties>
</file>