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13CD-71F8-4B0B-8534-D4A356592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EEB6-96AF-4950-9947-7D4C04439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29E4-E83A-4179-8075-F5092180B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C436-FC32-4294-9353-F891045DD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D390-7949-459A-B7CD-13C1D87BB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6267-A42E-437A-98AA-A0DD61C30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00C1-11F8-48E7-B15D-823CD2DA1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6EB6-B18A-4112-8AFE-17DE25298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2242-C1BF-4103-AAB3-580FD83BF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C897-0808-425A-A9D9-A3249499D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637D-3FE6-41CD-A0BF-E0A8BCFD8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092B-344C-4C16-9B3B-97D0DDB5B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06789-0C0C-4C7B-8CDD-3D825C4EE8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16:45:35Z</dcterms:created>
  <dc:creator/>
  <dc:description/>
  <dc:language>en-US</dc:language>
  <cp:lastModifiedBy/>
  <dcterms:modified xsi:type="dcterms:W3CDTF">2006-11-14T16:46:10Z</dcterms:modified>
  <cp:revision>1</cp:revision>
  <dc:subject/>
  <dc:title>Slide 1</dc:title>
</cp:coreProperties>
</file>