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0795-38A7-4D5F-9CBC-05D09A31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915-9DDE-4FFD-8C2E-0BEDF8B4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EEFA-B1F6-4FEA-8DB9-CA84733A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4B20-48A1-4E70-A248-3752DB04C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5434-5798-44C2-9F2A-F0BCA04D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F3F3-AB40-4BF9-BD62-B036957F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A693-5936-4C66-A47E-4561044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0D8-A5ED-46F3-8D8C-0AD990FF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39C-8674-4A53-B289-2B2CA9BB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1A2-249B-426E-BA04-F6224605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2DF-35B2-48E7-961A-A48DBE96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CCB6-6246-47D6-9B61-911B4107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D153-FBBE-4425-8E78-A85704C82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>brd</cp:lastModifiedBy>
  <dcterms:modified xsi:type="dcterms:W3CDTF">2009-03-25T16:06:04Z</dcterms:modified>
  <cp:revision>2</cp:revision>
  <dc:subject/>
  <dc:title>Slide 1</dc:title>
</cp:coreProperties>
</file>