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AE52-B4E1-4CCF-B26E-A7580E43C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64A6-4306-4546-895C-BDA5090D4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AF19-4A64-49E7-902C-EFC5975DE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9476-050C-46FB-8D7C-8061CA553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D9D5-4989-4820-B161-6474A703B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0550-42FE-4DF6-98D5-BADDDB55D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EAFD-82C6-4E4D-BF5A-FCDD4B7FD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C24F-2ECD-4E03-A276-2754FFD1D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EAC7-7538-48BA-BD2B-6484B385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97C0-660A-4F6A-9274-58C34D83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8342-4AE8-4A64-ABBC-58FFA1B8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E65A-B103-4A37-92AA-FF3E00C7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702E0-B48F-421D-900B-5C1A03684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6:45:35Z</dcterms:created>
  <dc:creator/>
  <dc:description/>
  <dc:language>en-US</dc:language>
  <cp:lastModifiedBy/>
  <dcterms:modified xsi:type="dcterms:W3CDTF">2006-11-14T16:46:10Z</dcterms:modified>
  <cp:revision>1</cp:revision>
  <dc:subject/>
  <dc:title>Slide 1</dc:title>
</cp:coreProperties>
</file>