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19D2-EFF7-4A90-B553-4EBF8BA6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393-75D4-42AF-A86C-3569800A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BEC9-7949-478F-9DE4-A3037D5B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F76-7846-4BA6-AE03-24BDB135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F00-1CE9-4650-835C-13ED5CC3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6E63-C742-4566-A9C9-3A62E4BD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042-4DEA-40C2-9259-02D3DC71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38F2-87FC-42C6-8D99-78B6D2AE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4EC-B1DC-4814-8202-49DC816D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B61E-938E-4D70-BE4A-C37D44B6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A62C-35CA-426B-B079-6DF6F838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01C-3B75-46F6-BC21-0FE1289D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E548-9A9E-4085-A80A-B5D7190D9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>brd</cp:lastModifiedBy>
  <dcterms:modified xsi:type="dcterms:W3CDTF">2009-03-25T16:06:04Z</dcterms:modified>
  <cp:revision>2</cp:revision>
  <dc:subject/>
  <dc:title>Slide 1</dc:title>
</cp:coreProperties>
</file>