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F540E-1E46-4919-B988-41D224483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DA805-D434-4BF3-A1E9-375F8AEC4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B12AC-A990-47C6-9FB2-6E28934F7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A5C38-CEE0-4575-A650-BDAFAB2D9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73D57-7364-4AD3-A439-FEF65E0A2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F55B8-69A9-4B7E-A726-F0838AF37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B663A-6667-4BE3-9F4F-5070FD9D5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4890F-05A7-4DC7-9900-40F6625A2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F3CBE-46B4-4188-A41F-3A9D8A270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22917-D0EB-4691-9C79-73F4AB92E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BF652-9F9D-4E0F-B82E-851CB36E4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56134-C4BE-48F1-9299-62E3F2962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44E53-3102-410B-893C-4AC7A5CAA7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4T16:45:35Z</dcterms:created>
  <dc:creator/>
  <dc:description/>
  <dc:language>en-US</dc:language>
  <cp:lastModifiedBy/>
  <dcterms:modified xsi:type="dcterms:W3CDTF">2006-11-14T16:46:10Z</dcterms:modified>
  <cp:revision>1</cp:revision>
  <dc:subject/>
  <dc:title>Slide 1</dc:title>
</cp:coreProperties>
</file>