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E859-9FDB-4188-9E17-BAEA4C64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23ED-DB1A-42A8-AB9B-E203994E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E84E-1F2A-482F-B4AE-2F6A7FB0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5A33-5E8F-46C4-855C-A0C940D6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1AF-7B7F-4708-8361-CEA7025C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D9BE-F0DD-48F0-BB97-D9F5B71A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CFFB-F89F-4A9C-9856-E83D9E48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ED6F-D12D-4C05-A885-F7BD236B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A05-A35D-4C72-A042-F53FF28B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1A4F-598E-400B-AD0D-E7480B3B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8EDA-5C3C-4A27-9811-B93D9F10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0A89-C61B-4D23-A9DB-61BA26E9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C2A1-1954-4AF1-82E3-92F5F0AAC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>brd</cp:lastModifiedBy>
  <dcterms:modified xsi:type="dcterms:W3CDTF">2009-03-25T16:06:04Z</dcterms:modified>
  <cp:revision>2</cp:revision>
  <dc:subject/>
  <dc:title>Slide 1</dc:title>
</cp:coreProperties>
</file>