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562-583D-4F85-A568-815A1526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9565-47C1-40CA-9BD1-171BD605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F6E3-FAB5-4A4E-9862-24E38389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619A-B955-4C14-A6BC-76D43A6C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7EE-9750-4212-B388-076028EC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E916-9AC9-434D-B07D-E1A7586A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9D9-2A2D-4B2C-9CA6-243BBFC6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90D2-EFFD-4DD6-9F1D-3BFA660C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CB4-D1C5-416F-9424-5318E176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B14-D463-482D-967B-AD788FF1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C9D-27D5-4228-A3D1-54CBC864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7F2-9BF9-4923-B7F6-47E05245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01BA-74AA-4AC0-8BE5-B46481425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>brd</cp:lastModifiedBy>
  <dcterms:modified xsi:type="dcterms:W3CDTF">2009-03-25T16:06:04Z</dcterms:modified>
  <cp:revision>2</cp:revision>
  <dc:subject/>
  <dc:title>Slide 1</dc:title>
</cp:coreProperties>
</file>